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563-2DAA-4945-B3D9-F37510EE4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BE46-405D-45ED-85F7-4E52CFD7CA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1570-1FD8-406E-9ABA-8938861F09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DE1-8CD1-4708-9775-416354C5A2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E600-6BE0-45B7-B200-BFD153A27E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3B23-4F8D-4DFE-9D6F-D341A08906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F28-BDD8-4CAF-9C08-9B03FD7191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9643-F25A-458F-B97E-0ACA7FE834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6C53-42FE-4DF0-8E32-1E03877C00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D16-F3C8-4A41-ABDB-35F35279FC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847C-4A22-4610-B967-8D1636208F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2EA2-AD0E-4A1F-AC58-FEBE4EC1B8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3BCF-E0E1-4AD0-8165-008B00B110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B6A-0EAE-4908-9F68-16CF239F6A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CA53-E428-4930-B6D2-A6F80F54D9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3835-F8C5-4423-B0A2-13500973D5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C05-7A1D-45D5-A0BF-16F69B3475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05F-7AF0-47E9-BFFB-922ECFF2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0E4-37B3-4F50-8198-A545C2F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42F-CD3A-48E2-A479-66DEE404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4B0-E3BD-4E53-82C4-49EF1D71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11648-8DBA-4E66-84E1-66D54442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5A50D-7355-4A6D-8257-712D832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0AA09-0C9B-48D3-8F8C-71883C45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BBFA9-2B9C-43B1-B2AE-D81DF99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8C5A8-15D5-461E-A3FE-D74579C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95AE2-FE2A-43BB-9D6B-047CA1C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21941-C356-47F1-A263-B911D24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0CF-6592-4EB4-8827-A853248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22F6A-5B82-4250-B664-598520E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0B547-1D29-4F54-9CD8-B62F324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E14EA-2628-41EE-8686-0660556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3E0B-5ADD-4FEA-94F1-19AB85FC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DE3CD-D8F4-44ED-9DD7-AED2C6F8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722B-32E6-4016-9EAE-CCE84802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FD61-A393-4827-A81A-C5EFD60C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C0DC-0A8A-4F78-8214-52D3C660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9CA5-A941-4756-B9CE-2C6190AE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A67B-9CB0-4909-B8BA-CF2CD83A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7B6-9F96-4B9C-8888-F0DD033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6DE9-0150-4DF7-ABA8-650202E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86C5-475C-4CCF-8EE6-0700916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1590-95BE-48F6-918E-8FAB436C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E8D1-C479-4BEE-AEA9-E3A27DC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DD81F-F65B-4070-927D-C0FEC9B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668B-5D9C-4D9E-90EB-A4915A38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ACA8-52F2-4836-A8C5-6848E71B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FC8D8-C95B-4C60-8656-F98A32A2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829D1-CE31-4627-B00A-AF272DCF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353E8-89FA-45C3-B520-6925B32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BB3-F664-4661-AB7F-FCA7C159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BAE32-CE92-4C2C-9BD2-D032EED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88E0F-971A-4069-A7C6-1F5C8AF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68DF8-481A-456F-879B-4F85CB9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BAD0E-9B42-4C70-A9F7-828FE5F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571E1-B205-4638-8E0E-4EB36EE3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74E87-D70F-44A9-9B4F-84E4A7B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64A0C-6F07-4175-A700-C7BB463B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19B67-C6F2-42C3-AD9D-377976CC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70F20-EF15-4F63-8807-347869D7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D09-47BB-4A30-AC97-B6E05B8C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E49-071E-42B6-BB82-3DCBD26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C13-D711-4C81-9742-36E874E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1D6-BBBF-4B41-929E-5EC7CE6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9F5-8F49-4490-BDD0-665D2FF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BDBD-A338-4B6A-87FE-A8EAFE78841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00AF-E71B-4219-8BA0-4F47F2A23D5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9637-2FC7-42CB-813F-E6D64635DD0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8A79-72EA-4580-9C8D-FB640F66ED0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Introduction and Literary Term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gendary blind bard (poet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ved between 1000 B.C. and 700 B.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om western Asia Min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44200" indent="-4935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Ionia in eastern Mediterranean)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ally “composed”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lia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and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dysse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al tradition: travelled and recited epic poet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44200" indent="-4935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ntral hero of epic poem (e.g. Odysseus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ger-than-life figure from history or legen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portance: national, international, cosmi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its of hero are those valued by his societ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) Archetype: character, image, or situation tha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ears in lit of all cultures and all ti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) Bard: wandering poet who recites po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) Epic simile: Homeric simile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ng &amp; elaborate comparison of unlike subjec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sing words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like, as, just as, s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) Flashback: scene that interrupts a narrative to relate earlier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) Guile: (filled with) crafty, cunning, clever, wi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) Hubris: arrogance caused by excessive prid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) Meter: rhythmical pattern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mber &amp; types of stresses (beats) in each l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: written in dactylic hexamet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nes of six feet (beats), 3 syllables e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ith stress on first syllabl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8) Muses: spirits that inspire poets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 omniscient goddesses of art, literature, &amp; sc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) Myths: Fictional tales that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describe actions of gods &amp; hero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explain causes of natural phenome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yths emphasize supernatural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ther than historical even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) Narrative poem: a poem that tells a story, e.g. an epi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) Oral tradition: passing songs, stories, &amp; poems fro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e generation to another by word of mou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2) Stock epithets: adjective-noun phrases that describ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ople, forces, and objec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.g. Odysseus the wander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lypso, loveliest among godde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eus the lord of clou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wn with fingertips of ro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9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ng narrative po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out the deeds and adventu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 national or legendary hero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vocation to a Muse (goddes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ng in me, Muse, and through me tell the story…”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f these adventures, Muse, daughter of Zeus,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ll us in our time, lift the great song again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pic &amp; theme stated in first lin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…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that man skilled in all ways of contending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wanderer, harried for years on end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fter he plundered the strongho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the proud height of Troy.”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Beginning: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 medias r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in the middle of thing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 flashbacks are us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) Language: formal, elevated, poeti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ten recited to music (lyr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ock epithets and epic simi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ng speeches by main charact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) Lines: formula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er based on long &amp; short syllab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) An epic hero on an epic journe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) Intervention of supernatura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gods and goddesses 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me: 1200 B.C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lace: modern-day Turke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mies: Greek (Achilles) and Trojan (Hector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gendary cause: Helen of Troy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rpose: control of trade in Aegean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ngth: 10 ye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4 book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 main plot strands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Ithaca without Odysse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Odysseus’ travels after the w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Odysseus returning ho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yalty, devotion, fortitu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k ideal of strong body and strong intelle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ndering hero returning ho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iumph of good over evi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bedience to laws of god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32:59Z</dcterms:created>
  <dc:creator>Jeanne</dc:creator>
  <dc:description/>
  <dc:language>en-US</dc:language>
  <cp:lastModifiedBy>Jeanne</cp:lastModifiedBy>
  <dcterms:modified xsi:type="dcterms:W3CDTF">2012-01-08T23:08:12Z</dcterms:modified>
  <cp:revision>6</cp:revision>
  <dc:subject/>
  <dc:title>Epic: The Odyssey</dc:title>
</cp:coreProperties>
</file>